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8100-8074-40CC-9B8F-DCA0E4F7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68D6-0B46-4147-A260-04DA68C9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0972-198E-4981-B654-02B7D02B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6481-3985-45B3-9A48-8926370E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4BCE-E74B-46AE-A5C3-C6610A89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7B41-B96F-4D9A-A8A6-2C390225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E529-E0DE-42A8-9594-648ECC02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AB1C-F4DC-438B-AD0B-9F32DB01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7E7F-248D-4B62-8130-DCF61197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8E02-94D2-41CE-BF8A-B5B23034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C955-037F-4B51-B59F-B64CDD24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734B-4248-4C5B-928C-5E5B4647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9361-A6A1-4C4E-B0A1-05CD5A491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2120" y="0"/>
            <a:ext cx="5410080" cy="6095880"/>
            <a:chOff x="762120" y="0"/>
            <a:chExt cx="5410080" cy="60958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762120" y="0"/>
              <a:ext cx="5410080" cy="609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1791000" y="1919160"/>
              <a:ext cx="3330000" cy="2370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0" y="6553080"/>
            <a:ext cx="685800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bi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-312840" y="3435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quot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3841920" y="332064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dat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5:29:37Z</dcterms:created>
  <dc:creator>chris.williams</dc:creator>
  <dc:description/>
  <dc:language>en-US</dc:language>
  <cp:lastModifiedBy>chris.williams</cp:lastModifiedBy>
  <dcterms:modified xsi:type="dcterms:W3CDTF">2012-12-14T15:38:32Z</dcterms:modified>
  <cp:revision>3</cp:revision>
  <dc:subject/>
  <dc:title>Slide 1</dc:title>
</cp:coreProperties>
</file>